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8D5-7AE6-4741-BA45-0C3C8E8F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3AF-F1EE-4DBA-89B7-188FA56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500-8BFC-491E-974C-8EE452C0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AAC-2DE0-4FEB-9796-AD209FEC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C79-1644-4D33-8A7A-04C29FDD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797-113F-4055-99A9-5A5F6FA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274-A401-4249-9A80-C4CB6B1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6FF-6529-4AC9-A664-F94D496C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3AD-8026-4FAE-A930-C4776DD7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265-CBD2-4784-ADB9-5011693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C7C-048B-41DF-8687-8753325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06D-9740-41BA-A27F-AE9F030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99F-1D98-4924-8430-EAFAA729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агностика для детей старшего возраста по 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я ребёнка строить изображения по линии штри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веди штрихов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обводит изображение по штрихов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3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я ребёнка строить изображения по предложенным точкам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 точки в заданном направлении так, что бы получился какой-то определённы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выполняет задание, соединяя точки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32004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600200"/>
          <a:ext cx="7859880" cy="3774960"/>
        </p:xfrm>
        <a:graphic>
          <a:graphicData uri="http://schemas.openxmlformats.org/drawingml/2006/table">
            <a:tbl>
              <a:tblPr/>
              <a:tblGrid>
                <a:gridCol w="3930840"/>
                <a:gridCol w="3929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оцено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,6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 – 2,3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 – 3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уровней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зкий урове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умеет или отказывается проводить прямую линию, отрывает карандаш от бумаги, не умеет штриховать в заданном направлении, затрудняется строить на листе бумаги различные предметы с помощью ломанных линий, не умеет создавать графические изображения с опорой на образец, соединять точки с помощью линейки, не умеет строить отрезки при помощи циркуля или линейки, затрудняется строить изображения с осью симметрии, затрудняется дорисовывать недостающие детали в предметах, не может строить изображения по линии штриховки и так же строить изображения по предложенным точкам в задан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бёнок проводит прямую линию, но отрывает карандаш от бумаги, с незначительными затруднениями штрихует фигуры в заданном направлении, испытывает некоторые трудности в построении на листе бумаги различных предметов с помощью ломанных линий, затрудняется в создании графических изображений с опорой на образец, затрудняется в соединении точек с помощью линейки, испытывает трудности в правильном построении отрезков с помощью циркуля и линейки, так же имеет не значительные трудности в умении строить изображение с осью симметрии, испытывает затруднения в дорисовывании недостающих деталей в предметах и в построении изображений по линии штриховки, так же в строительстве изображений по предложенным точкам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сокий урове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ребёнок с лёгкостью проводит прямую линию не отрывая от бумаги карандаша, умеет штриховать фигуру в заданном направлении, с лёгкостью строит на листе бумаги различные предметы с помощью ломанных линий, создаёт графическое изображение с опорой на образец, умеет соединят точки с помощью линейки, строить изображение по линии штриховки и по предложенным точкам в заданном направлении, правильно строит отрезки с помощью циркуля и линейки, строит изображение с осью симметрии, с лёгкостью дорисовывает недостающие детали в предм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ить умение ребёнка проводить прямую линию не отрывая карандаш от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ла летит к цели. Не отрывай карандаш от бумаги и не останавливайся пока стрела не попадет в яблоко. Линия должна быть прямой и ро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бал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не отрывая карандаша проводит прямую ли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провёл линию недостаточно ровно, отрывая карандаш от бумаги 1-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или отказывается его выполнять, линия прерывистая, не р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16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штриховать фигуры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можешь помочь этим цветам. Устрой им хороший дождь. Цветы его давно ж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ебёнок не отрывая карандаш штрихует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 при направлении штрих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штрихует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629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строить на листе бумаги различные предметы с помощью ломанных 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тобой художник изобразил предметы, но не успел их дорисовать. Закончи рисунки так, чтобы получились предметы и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правильно выполняет задание, не допуская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рисовании ребёнок допускает небольш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ыполняет задание не в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3657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 умение ребёнка создавать графические изображения с опорой на образ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а по точкам нарисуй такой же квадрат, как нарисован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строит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857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явить умение детей соединять точки с помощью лин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едини эти точки с помощью линейки так, чтобы получился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ёнок правильно соединяет точки, используя лин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 верно выполняет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089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детей правильно строить отрезки с помощью циркуля и лин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яц взял циркуль, розовый карандаш, линейку и начертил 5 отрезков одинаковой длины. Все отрезки зайца имеют один общ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строит отрезки, пользуясь линейкой и цирк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ошибки при по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200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строить изображение с осью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рисуй вторую половину рисунка симметрично зад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выполняет задание, не допуская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08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умение ребёнка дорисовывать недостающие детали в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рисуй линии так, что бы получились прямоуголь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дорисовывает детали в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при рисовании предметов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086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5:56:17Z</dcterms:created>
  <dc:creator>xakep</dc:creator>
  <dc:description/>
  <dc:language>en-US</dc:language>
  <cp:lastModifiedBy>студент</cp:lastModifiedBy>
  <dcterms:modified xsi:type="dcterms:W3CDTF">2010-12-24T08:13:40Z</dcterms:modified>
  <cp:revision>3</cp:revision>
  <dc:subject/>
  <dc:title>Диагностика для детей старшего возраста по кодированию графической информации</dc:title>
</cp:coreProperties>
</file>